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2F25-F0E2-49EC-B89A-B5CD9CC04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8118-6BB2-46EA-98C1-D0499666E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8D6C-BEF8-485C-A146-E6FBF13B5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C339-5A1C-430D-8569-8FC255723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1BD8-B65D-4B59-8E6C-6CAB25BDF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49E1-7608-4358-9215-C64529B5E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FBD3-9572-472C-890C-6341429B4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50F6-B790-4F09-998D-14338B90A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7276-BEE0-43FF-AA5C-19D0E1C21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A61D-02C9-4C96-9F14-7A0473A52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9F15-3711-44E4-BD1B-3646C2B23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3107-41A7-4B64-AD66-6768B2ECE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513C2-48BE-4162-AF58-39A7735D0A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MCBD09162_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99cc00"/>
                </a:solidFill>
                <a:latin typeface="Gill Sans Ultra Bold"/>
              </a:rPr>
              <a:t>Frogs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Unit 4*Week 3*Day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ntence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MCBD09162_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00200" y="1066680"/>
            <a:ext cx="5943600" cy="472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 Ultra Bold"/>
              </a:rPr>
              <a:t>I went straight to my room, but I couldn’t find my paper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MCBD09162_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1066680"/>
            <a:ext cx="5943600" cy="472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Gill Sans Ultra Bold"/>
              </a:rPr>
              <a:t>I will build a fence around the tomato plant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MCBD09162_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00200" y="1066680"/>
            <a:ext cx="5943600" cy="472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Ultra Bold"/>
              </a:rPr>
              <a:t>I love to set a good example, so I will donate this little bea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MCBD09162_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00200" y="1066680"/>
            <a:ext cx="5943600" cy="472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 Ultra Bold"/>
              </a:rPr>
              <a:t>Mother put the baby in the cradle by the trundle bed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MCBD09162_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066680"/>
            <a:ext cx="5943600" cy="472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 Ultra Bold"/>
              </a:rPr>
              <a:t>Father said, “Put the broken candle on the table.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20:59:52Z</dcterms:created>
  <dc:creator>llefever</dc:creator>
  <dc:description/>
  <dc:language>en-US</dc:language>
  <cp:lastModifiedBy>teacher</cp:lastModifiedBy>
  <dcterms:modified xsi:type="dcterms:W3CDTF">2011-01-19T00:44:44Z</dcterms:modified>
  <cp:revision>3</cp:revision>
  <dc:subject/>
  <dc:title>Frog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54225175</vt:r8>
  </property>
  <property fmtid="{D5CDD505-2E9C-101B-9397-08002B2CF9AE}" pid="3" name="_AuthorEmail">
    <vt:lpwstr>LLeFever@bcbe.org</vt:lpwstr>
  </property>
  <property fmtid="{D5CDD505-2E9C-101B-9397-08002B2CF9AE}" pid="4" name="_AuthorEmailDisplayName">
    <vt:lpwstr>Lara M. LeFever</vt:lpwstr>
  </property>
  <property fmtid="{D5CDD505-2E9C-101B-9397-08002B2CF9AE}" pid="5" name="_EmailSubject">
    <vt:lpwstr>2nd grade Scott Foresman</vt:lpwstr>
  </property>
</Properties>
</file>